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FF9-EBA3-48E3-85AD-02054F90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41A-A1BF-4334-9F70-EC3AE51C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92215-E884-4F0F-87A0-A7B88938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82A38-84E9-4461-815F-1ACDA3F5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814B6-188E-4495-A3C8-F0076ACB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23418-6DE3-4276-80E7-1FFE723C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D1216-E76C-4335-9350-0E1FC9DA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D721D-63D3-4E4D-8C32-EAABF68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48DC-C9C6-439E-9D1B-6DF3043F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34A08-AD81-4467-B2E9-957CE77B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37135-B985-4883-8606-C5271CDE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C0138-C01D-4B96-829D-CBE66BE5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6F0-A31E-4974-8701-9A9D5A34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CAFD3-9A35-4B49-AF9B-77A57C1D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B8C52-EC01-403D-B0D5-3D6F8ED5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AF19D-EEA8-4EDC-8AEC-E0A1DDB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FABB9-C641-4DC5-97E1-C5C1A982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6D206-0E4E-42F2-91D9-1D8EC02B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5BA91-8C27-4173-AAC3-53F061F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B9E3D-79B9-4A58-AEAD-6BB0311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D6B7E-E84B-4547-A161-F50295F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D70CA-DC48-4B2C-AA18-81DF4815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A9AE-5C26-426E-95DE-62108C32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D63-DFC6-48CA-86F6-CD2F6D3E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BC01D-46F4-46D2-AD95-349A5B05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818AB-4AD9-4A4A-BE74-91714FD7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E8AB1-004B-4A9B-815B-29B4EC4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C0541-D0C9-4EA9-8942-4A119EBA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1E38E-C3C7-41A7-A3FF-117F7500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2BA67-B8EC-40D6-ADA0-036FBB6C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E6BD-07FC-4D2B-95F9-3436BBE4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56765-06A8-43B1-9BB7-D4E517B0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B0ED3-B4F9-4561-8880-AB9438D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6A0A8-015C-4F2C-8B1D-B155568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C4F7-E511-429B-A799-C18659D2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E0B98-6A73-4248-9D91-C8AB904A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C5206-6396-416F-BD6A-9E9413B1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B6F6-D577-4681-BC1A-9487A4FA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D1826-6BD0-460E-AE0B-16752D74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1EFB3-5727-4565-9066-563083F7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CFE50-858F-4AE1-B669-F95E08CB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9834D-554B-4BFA-A492-C074294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33EDC-C925-42B9-AFFF-EB14412B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39166-427C-49D2-9199-AE25AA92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FDFF3-01E7-4720-8397-6E31E15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3E0-5945-4683-9A10-50DC5E87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CD7F9-6FED-49DF-B9DC-1D8A0F9C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58E2D-EFF9-4ED3-A09E-C56EF1C4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27AAF-B242-4FB7-B792-0743012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D7FCD-EE4A-4A2C-BA5D-ACA33205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3A5C7-D2E2-4A1D-8A47-B1086EA0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50EA5-3207-43CE-9639-55DA33FD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38B44-A72E-4A47-9DE5-80B14C4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1C5CAB-11C6-48F1-9CE1-99F4FDBF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ADA59-6C12-4A9A-ABC8-C81F5BE5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D2CF8-1728-4ADD-8F69-88ECF2D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3A9D-CEA6-457B-AF71-62F60342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C88A2-5719-4398-91DD-039CDABD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DA1B90-5BF5-4B8A-B074-1F7FC978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E6850-D5D0-4069-BC77-BA6309B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D7F4B-4A99-4C9C-9B86-B7943DAB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981E1-8D03-4B7B-B05C-05B2A6FE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371E1-FB8C-420D-8864-29D22FAA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07BD0-9865-491F-A76F-3270C9C96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D4848-1F76-4DF5-B1EC-08F30DAB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29DEE-E172-434A-9E36-C1DEA60E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961A0-5165-4D33-8D5D-4CEC7858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B815-E8C8-4887-A1AF-D395C172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7B313-22AC-4330-A0F6-458D57D3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F4E2A-2B42-4681-84D6-238B659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9DD0B-DBA8-47E0-B2C9-4718E8FB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9D1F5-0693-4EF1-88F8-5C4F68C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DBD5C-47C8-4D2D-8B4D-AE925710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9E2FDC-66DC-4F16-A57D-F10E370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9E215-850B-447C-A857-77384B1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7FB71-8651-42BE-86B0-DA2C71C9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D3A5C-A097-46B6-BAF8-127229F2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76CDF-5035-4870-A0F8-7A336B40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F1A-D644-405C-A6F6-EBD787EE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22FD5-4739-43CF-A526-945CD121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5349E-658B-4CBF-9909-C3B2008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191EA-50E9-4AA9-9AEA-21D25D9E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41EEB-37AE-4982-B873-9B363E42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A7358-71F3-45E7-9EE7-F16331DC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A246F-3A62-45E4-9E8A-62480FD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991A4-F197-4BC8-9A26-84A77910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2D47C9-7CC2-472A-ACAE-780F7463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01A73-448F-4CB3-8E9C-45C4589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B82BC-0014-4FF5-9462-48C0BB88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F5B5-C476-4C67-BE5A-E08AAD4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186D6-B6B9-4789-891F-D1541280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322B9-6E61-40DE-9633-9061285B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14ED0-4001-45C9-9FEE-BE3CFD8E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84336-FC07-4FBD-BA8B-3561E77F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234E2-FA19-4AF5-8408-15D2614C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F0AC6-EBA9-4959-B941-06E8A78C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A3097-563A-48DF-BAB4-623BC3CC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F321F-34E7-4DAF-9AB1-A0754E7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E290B-CCFA-42F0-B31E-2100CCC2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16BDC-1A46-4600-8CEC-BC169F7C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D633-22CA-46E1-841B-335127E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465BF-C3F1-4245-9675-8B2B651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01266-264F-46E8-8524-D99DFC85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2E2E9-75E1-4B03-8FFC-E6855086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2D4B6-E5F2-4715-A88C-B88DEE6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4B576-39DB-49F9-8FA3-22593AE5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4BF9D-66A4-4FAC-80B0-74E61861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68AF71-3DD9-4C3E-AF14-9B1C7595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85B342-621A-47EC-85A5-8E1C228E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8B972-2B97-4DF3-AABE-150CB840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F13B9-0936-45AC-8B62-E6635F4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615-83F9-4E6A-AF94-B6E2CCE1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3DFB-A21B-4594-8F2A-E141798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0ADCB8-32E7-4E85-BDE1-08BAEAA6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54443-5BC4-4BF3-9E38-01ADEAC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D917C-A585-4DA0-8A91-AA832196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6A0231-7520-4EA3-8787-758EF31D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DBD51-89BD-4393-8185-D0D5D8AF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45C1D-87CB-47CD-9CD9-22D4F4E0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3CD35E-F87B-4CEC-87B7-20A07A68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EB551-9261-4B29-95CF-54D567A6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12704-F567-4F2A-8C10-869089C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1994E-3FD6-427C-9B7B-6634D83E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DF5C-B024-4A0F-856A-9DD9D63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9E71C-F301-406B-84DA-F9229BD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B3E0F-3B09-40CC-870A-D62C6BC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9FDF3-DD90-45B1-9A9C-E626AEBC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364DE-486B-4BF8-8BA1-8497904A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151D1F-5792-4E67-8672-6D51731D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5F649-73CC-44DB-A054-8AB4C0C8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A9B36-A0BE-4278-A931-1A6F1688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6E84B9-21BE-4AB9-BE55-787BEAF7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5EC05A-138D-4789-B7AD-6301A0B6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08A1D-D95C-40B4-A1F3-76C0CCF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BF6B-B4EE-46AF-BEA5-FBE83817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60E53B-8BD6-4777-9CE2-AF7981E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907B2-B95E-4428-9932-6C185FB2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055DE8-8EAD-4A4A-A885-D3ABDFD8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45659-2E73-4117-A263-7530A6EB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808DE-51F4-484F-9797-5C41AA24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19CC7-C2BB-4454-985E-A5BC248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4B722-F733-45E0-935A-7557BB22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9A61D-BD2F-4E86-BC77-8274E7E3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61D22D-C1B4-4405-8673-EF250AAE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02972-0D99-4DB0-87F4-883F21A1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94E1-7C2A-47E1-BAC9-843002A4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A4E09-98B4-4BD7-9369-5A4721C3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5FD65-DF1E-4F8B-8BD9-E4C6380C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BF00C-CDEE-4CF8-A0A1-8904D01E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FCD67-9852-4D31-986E-12C6CE7A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F7721-BF6F-4E0A-A903-D5DF1E80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BC113-FCB9-4CF5-A3C8-6EEEE5B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101CE4-4E15-4C42-9ED5-BD638708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469BF8-6AB8-44C5-BA66-8504C37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0C747-718C-4475-B2B6-E5A15D91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DCA7B-D105-4B6C-B81C-3F391E09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11C1-1394-4182-9FBF-E52814B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60C59-C90E-451A-B191-C4DCEDAF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07EF3-97E6-4680-8F99-3494537D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A8AD8-0C85-4008-956E-D3095F3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A911C7-B6A7-42BB-BDD4-882F09C0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7266D-B8E5-47D8-B5E6-B4E9217B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B11F7-C3D4-4E9D-B362-BB68CBB3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A2713-26E0-47B4-9AFF-BAD8182C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000B2-B7EE-47BD-92EC-955ADB00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33C41-C58B-43CF-9FA5-C79B9A60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17725E-58D4-4025-AD3D-BEEA064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8F68-703A-4B68-BA94-13036DA1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81AAB-9380-4FFC-BDA0-F14CF5A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566DD-6BFD-40D2-8403-0A79690B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36C1D-6771-47B0-AB5C-4C1026E4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7D28-3703-4A95-A99F-C79E12B0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E1A4-F3E7-4CF6-A0BF-B0BA6B1B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E102C-098F-45DC-AC95-0037908D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7ABC-B438-4084-B792-2FD13A42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D66-4735-47DB-BA22-BC25653E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29583-E1DB-47AF-97DE-DF3BEDF2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11603-F3E8-4383-A425-5942D44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3955-1D59-43B5-B264-4D8614E2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DE83-9D5B-4858-81BF-7E6BC2D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B891-D454-4BC6-8504-8A00A7E0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EFEF-A188-4151-8746-31FCA4B8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D67D-5E33-471E-8904-B2AC6E04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1C36E-45BF-447E-B4DB-AFF6B294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8CB3F-0724-44E7-BD38-541953A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8EB8-5398-4BC5-8972-B148274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C02-BEB3-46A8-A5DF-6D8EDB3F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34518-7C56-407A-99B2-2AB4D4C2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136C-EF21-4F3B-BC35-B0FC6DC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0C93-D0BA-4AE3-872E-EAF6CD2E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40D2-E4E8-49D5-94BF-4C1A5CA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873A6-8167-40BD-A43E-F610A22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7853-2DC4-4A76-A663-84C81F2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7BDC7-69A8-4B5B-B1E9-0B6CAF20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8EF42-50DE-4791-B6E4-0538757C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EA40-43E1-46D4-9AD5-596D7D0C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B98EA-79C7-4261-90B4-800E8AB9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D21-3AA3-47E0-A75D-F78716A5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39E9-B4AD-4759-8C1B-859D38FE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F083-BFF1-4869-AD2B-340FDDE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ADFE-379B-40C2-B8CE-5F1D23A7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672B-8C53-4D12-84EE-1CD850A9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E61E-0EDE-44E7-839D-B21DE77A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620C-84A7-4E27-BFB3-348A452F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E19E-E594-4ABB-8E25-92A36A2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911F3-2E20-459C-A4D6-B83FF31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4545D-DF34-402C-A4FF-C45FCCE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851F-226F-4D49-BC77-C5122A9A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2EA-812E-4AE0-8427-071195B1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52D46-6510-4CF1-B64B-75743D79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5B01F-B9A9-405E-B632-B9B36A6B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445C-EED7-45CF-9544-F871318F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C53E-9433-46F1-AADA-4EC3FAFC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0B7F7-9A7E-4162-99B4-B680F0C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DC4A1-EC49-4DE7-BFA7-055DE14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32DD-0467-4393-8BBB-8A111FBA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5D01-9E79-4631-A88E-822683E6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F5CE4-A9E4-40C9-B577-D42092E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28A1-28F0-433D-8FD7-63A7ED1B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A4A-15E3-4F82-B3D4-FA8A67B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C1AF-65B7-4EEF-8BDE-C45B26D2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63313-7823-4A4C-A897-21A2A25F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2F800-FBD3-41A2-9A57-1CCD31F8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82D71-19AD-42A6-9CED-92BF32F2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E82C8-7CBD-4CFE-B83A-2240BDD1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FD553-FEA4-44FC-A87B-5A30925C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7EED5-C7AC-496E-AAB3-2F3E0784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BA89-1723-42E8-819A-6BBA2E5E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57EC6-E3EA-49CA-AD8B-41A2B142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7919B-F086-44A0-BEE9-CBFC2058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F60-095D-4811-B40E-645C912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B97B3-200D-44EC-95C4-2E1C2CE9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0DA1-D184-4250-A754-8E49915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11229-3A41-4EE2-83FF-5C2CF026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1DD20-3ADA-4349-95E7-8BA6F583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EF5F3-D8DC-498B-A708-16A4E865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1EB42-0450-492C-960F-2B13D57E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8197B-439D-41F4-B629-99B2AAA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E0444-D7A2-43A4-878C-8CB4AE9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3D6E6-72DB-41AE-B225-127EE28A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16EF7-2708-4537-81E3-E5E2FFA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DAF-621E-4EAE-AD7E-F79393A9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6185B-A2AB-4E1B-901C-76634675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7B5E3-7CAD-454E-B499-9AEA663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FEB4E-C5B9-4A26-9A37-478A1A98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58EF3-FED3-449C-BB39-D6CFA049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108DE-60FD-409F-A5CD-D0F878C9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CB976-3405-4A01-9F34-FF9B8831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E035D-C4BB-46EC-A606-081C99AF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8A47-A965-47B7-AB57-CCBE22F0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734FA-C7DB-4CE8-A58E-F72160E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5E9A3-E702-4EE3-9892-A8282D1D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FC98-2B19-4063-B3CF-76B3261626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331-51D3-4A6C-9751-21F9EBA62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F5C-DF0C-4F35-9255-1E883AB12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B733-A5BC-43CB-8669-1825110BD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B00-0A3F-455C-9413-6B5F6986C0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E55B-6BFC-4A8A-9377-89F349982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AB44-23D9-4BF5-89DB-5A5F6FD3E2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495-9CCF-4DC6-8C59-F3F2A8299A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E99-A1AC-49AA-86B0-00A6A682CF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9175-F2BE-4EFD-A0AA-B0441457E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BD46-3AA8-49B3-8C86-C2987455FD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DA5B-1FED-4A87-A639-4D77640831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C4E6-FC40-4F15-8CF9-E324B3194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C2A1-7DA7-4C1D-A842-BFC325BB5A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699-2B89-4626-A844-B34E3C146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7B90-9ACF-49E4-91FC-53892E4A74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0820-EB10-4D43-BBE7-8F8C0706A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26E4-42F7-4F06-A1FD-FCB915D86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56A-ED8B-4B10-8F5C-B3C09716FF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BBFF-1560-404E-9A2B-B3C5DD707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6F2F-7FC5-4974-99FA-90A1D701CB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4C5A-8EDB-4CBD-8104-51ECCB9C1F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7344-7077-40C8-B2C5-C58F4D14B5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EBF9-F265-47F7-AF69-9070D2B53D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DE7B-1F8B-4CD9-8C0A-C8F92F1CF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A81F-0EEF-4C98-9094-C21F73DD7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1F3-96C9-4A45-9D47-D63A4D9685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F354-4AA6-4313-B71D-45A63537FC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9DEC-C427-405F-BD3A-4071DA4BA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73DD-EB0E-460E-8ECA-D7DF715E2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6FE-C0C9-4BD1-AA8A-5D9AEE2C4A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E547-B1DE-407A-8DDA-F892E6483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373-D4C5-4E1A-9F50-5126B2F4AE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29B5-64BE-40D1-9F0D-F8985B4F9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838A-276C-4010-BD6C-44D9C17F3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6E39-B8E8-4824-96D5-211DC9B123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26E-0E87-4FA5-B46B-9711F601E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5298-1B86-4343-A855-37FC4F91EA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0766-8A88-42DC-A4DA-4BEFA2650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9CE-90A9-47D7-9216-90E2BC21B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04720" y="2162160"/>
            <a:ext cx="81345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885960"/>
            <a:ext cx="85629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8001000" cy="3000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425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68360" y="2565360"/>
            <a:ext cx="842472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66560" y="3151080"/>
            <a:ext cx="842508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95280" y="3716280"/>
            <a:ext cx="842472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324000" y="4365720"/>
            <a:ext cx="8424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8373" descr=""/>
          <p:cNvPicPr/>
          <p:nvPr/>
        </p:nvPicPr>
        <p:blipFill>
          <a:blip r:embed="rId1"/>
          <a:stretch/>
        </p:blipFill>
        <p:spPr>
          <a:xfrm>
            <a:off x="257040" y="57240"/>
            <a:ext cx="8629920" cy="6743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187280" y="3227400"/>
            <a:ext cx="4248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4248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1187280" y="4451400"/>
            <a:ext cx="561672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1042920" y="5084640"/>
            <a:ext cx="5616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116000" y="5702400"/>
            <a:ext cx="784872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971640" y="6335640"/>
            <a:ext cx="784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581040" y="44280"/>
            <a:ext cx="7736040" cy="6702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971640" y="2867040"/>
            <a:ext cx="612144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612144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55640" y="4091040"/>
            <a:ext cx="6121440" cy="850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770436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6"/>
          <a:stretch/>
        </p:blipFill>
        <p:spPr>
          <a:xfrm>
            <a:off x="900000" y="5719680"/>
            <a:ext cx="770436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7"/>
          <a:stretch/>
        </p:blipFill>
        <p:spPr>
          <a:xfrm>
            <a:off x="826920" y="6335640"/>
            <a:ext cx="770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14200" y="800280"/>
            <a:ext cx="87156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623880" y="733320"/>
            <a:ext cx="7896240" cy="5391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547200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55302" descr=""/>
          <p:cNvPicPr/>
          <p:nvPr/>
        </p:nvPicPr>
        <p:blipFill>
          <a:blip r:embed="rId3"/>
          <a:stretch/>
        </p:blipFill>
        <p:spPr>
          <a:xfrm>
            <a:off x="1030320" y="853920"/>
            <a:ext cx="3952800" cy="33721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187280" y="5530680"/>
            <a:ext cx="547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576360" y="1581120"/>
            <a:ext cx="7991280" cy="36957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2824200"/>
            <a:ext cx="431964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75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71640" y="4019400"/>
            <a:ext cx="7561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971640" y="4653000"/>
            <a:ext cx="756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571680" y="704880"/>
            <a:ext cx="8001000" cy="54482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900000" y="3759120"/>
            <a:ext cx="439272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684360" y="4349880"/>
            <a:ext cx="5903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684360" y="4970520"/>
            <a:ext cx="799128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684360" y="5646600"/>
            <a:ext cx="79912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39:1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